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gif" ContentType="image/gif"/>
  <Override PartName="/ppt/media/image7.wmf" ContentType="image/x-wmf"/>
  <Override PartName="/ppt/media/image5.wmf" ContentType="image/x-wmf"/>
  <Override PartName="/ppt/media/image6.wmf" ContentType="image/x-wmf"/>
  <Override PartName="/ppt/media/image8.wmf" ContentType="image/x-wmf"/>
  <Override PartName="/ppt/media/image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6D5BB-5B2C-461A-9702-292978A5F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845A8-AB84-4755-9C46-0D2655DA9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4C9F9-E2B3-4E41-85F3-BCC84CFAC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33C4B-5A9C-4A76-A298-92935ED3B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F8D8B-621C-415A-A2AA-E05EF2DB5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6D3F7-9FC3-4E01-A3F4-B407E1205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38368-F1FF-41D1-891E-074AF9252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374B5-0518-4916-AA96-87B751A9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1100F-89F1-4C36-95BD-3ED05AD83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C78C0-04C1-4C13-92BC-1320B159A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80415-EE08-4F7B-ADF0-47B56AD3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56293-CA05-4A5B-AB1C-6DF4A18BA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BF413-AB7A-4017-8F24-31EEB058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C3BCD-127E-4AD8-9433-FA5D5EB0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62876-F77B-4E10-95D0-214B9262B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31A7F-D51A-4D68-8B88-E197D289D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4A8FC-6BFA-4C9B-9D0F-14474F33D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6BD8D-2D89-4BA9-A11C-5E22779B2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45BC1-E645-408C-90B7-71BE9A0FF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E4B70-F0FB-45EF-A40B-D9590A4C8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52737-1703-4576-AF9A-6E1A2990B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09D26-3B57-4641-BC26-DE6A2049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6AD54-C70F-44DB-BA3D-B27C6C3F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89692-1BDC-4181-B719-06E3E7F2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1AF5D-282A-422F-B33B-1BB32164D9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35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2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22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20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21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22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23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24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25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26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27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28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29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FF96C-4DCE-4FB7-BEB3-42419CDF3D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free-resume-tips.com/10tips.html" TargetMode="Externa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reating a Resum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ST 1211 – Chapter 3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Tennessee Employers Say!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about resum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ying on a company Web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6.6% have a company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.3% advertise job opening on their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% allow uploading of resume to their company Web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% allow completion and submission of resume through company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ortance of Letter of Appl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3% letter is important even when applying electron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9% letter is desired, but not cri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% no letter i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etter"/>
          <p:cNvSpPr/>
          <p:nvPr/>
        </p:nvSpPr>
        <p:spPr>
          <a:xfrm>
            <a:off x="5867280" y="4572000"/>
            <a:ext cx="2266920" cy="1133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ference of Receiving Resum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top five of eigh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-mail message with resume as attached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r U.S. m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job bank (monster.co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company Web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j0345655"/>
          <p:cNvPicPr/>
          <p:nvPr/>
        </p:nvPicPr>
        <p:blipFill>
          <a:blip r:embed="rId1"/>
          <a:stretch/>
        </p:blipFill>
        <p:spPr>
          <a:xfrm>
            <a:off x="6019920" y="2971800"/>
            <a:ext cx="27097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ortance of GPA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5% use the GPA as a screening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st GPA Used for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%--3.5 and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%--3.0 to 3.4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%--2.5 to 2.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%--2.0 to 2.4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j0292024"/>
          <p:cNvPicPr/>
          <p:nvPr/>
        </p:nvPicPr>
        <p:blipFill>
          <a:blip r:embed="rId1"/>
          <a:stretch/>
        </p:blipFill>
        <p:spPr>
          <a:xfrm>
            <a:off x="5867280" y="3886200"/>
            <a:ext cx="2205000" cy="19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ngth of Resum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When is a resume too long?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4% think two pages is too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8.3% think three pages is too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1.4% think more than three pages is too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s"/>
          <p:cNvSpPr/>
          <p:nvPr/>
        </p:nvSpPr>
        <p:spPr>
          <a:xfrm>
            <a:off x="6095880" y="4191120"/>
            <a:ext cx="1352520" cy="1809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Document"/>
          <p:cNvSpPr/>
          <p:nvPr/>
        </p:nvSpPr>
        <p:spPr>
          <a:xfrm>
            <a:off x="2666880" y="4114800"/>
            <a:ext cx="1352520" cy="1809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4648320" y="4724280"/>
            <a:ext cx="83808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ferences Regarding 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% prefer references omitted from res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1% prefer references included on res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1% prefer references on a separate sheet but mailed with res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% prefer typed list of  references brought to int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8% prefer references written on application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 Spent Evaluating Resu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1.4% spend less than 1 min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% spend less than 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8.6% spend more than 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j0336775"/>
          <p:cNvPicPr/>
          <p:nvPr/>
        </p:nvPicPr>
        <p:blipFill>
          <a:blip r:embed="rId1"/>
          <a:stretch/>
        </p:blipFill>
        <p:spPr>
          <a:xfrm>
            <a:off x="5867280" y="3809880"/>
            <a:ext cx="20894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ortance of Resume Inform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5 point scal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ed experience (4.0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 experience (4.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ious employment (3.8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mplishments/duties (3.7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gree (3.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(3.1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related experience (3.1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PA (3.0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purpose of the resu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et you an interview with a compan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re targeted your resume, the more favorable the impre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j0280162"/>
          <p:cNvPicPr/>
          <p:nvPr/>
        </p:nvPicPr>
        <p:blipFill>
          <a:blip r:embed="rId1"/>
          <a:stretch/>
        </p:blipFill>
        <p:spPr>
          <a:xfrm>
            <a:off x="5257800" y="4016520"/>
            <a:ext cx="292752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writing your resume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“I”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sentences sh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plain Engl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bull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 from general to speci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 resume to one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j0238837"/>
          <p:cNvPicPr/>
          <p:nvPr/>
        </p:nvPicPr>
        <p:blipFill>
          <a:blip r:embed="rId1"/>
          <a:stretch/>
        </p:blipFill>
        <p:spPr>
          <a:xfrm>
            <a:off x="6019920" y="1981080"/>
            <a:ext cx="2512800" cy="22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ganize your resume to include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ding  (Personal contact inform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w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Experience/Volunteer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o leave ou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ct 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ons for leaving other po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j0242001"/>
          <p:cNvPicPr/>
          <p:nvPr/>
        </p:nvPicPr>
        <p:blipFill>
          <a:blip r:embed="rId1"/>
          <a:stretch/>
        </p:blipFill>
        <p:spPr>
          <a:xfrm>
            <a:off x="6629400" y="762120"/>
            <a:ext cx="159228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Resume Pitfa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profess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eless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gu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kill/Long-wi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relevance/Flu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sre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% of job applicants lie about 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3% of resumes contain significant inaccura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6% of businesses conduct some type of background check on job applic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idence indicates that those who cheat on job applications also cheat in school and in li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tting It Into Pr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a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a typeface and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graphics sparing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quality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j0283611"/>
          <p:cNvPicPr/>
          <p:nvPr/>
        </p:nvPicPr>
        <p:blipFill>
          <a:blip r:embed="rId1"/>
          <a:stretch/>
        </p:blipFill>
        <p:spPr>
          <a:xfrm>
            <a:off x="6324480" y="609480"/>
            <a:ext cx="175284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ofreading T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ers have little tolerance for careless err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rely entirely on computer spell-che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read resume out 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nother person proofread it al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j0240401"/>
          <p:cNvPicPr/>
          <p:nvPr/>
        </p:nvPicPr>
        <p:blipFill>
          <a:blip r:embed="rId1"/>
          <a:stretch/>
        </p:blipFill>
        <p:spPr>
          <a:xfrm>
            <a:off x="6629400" y="609480"/>
            <a:ext cx="195408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to get help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free-resume-tips.com/10tips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monster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vaul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j0240769"/>
          <p:cNvPicPr/>
          <p:nvPr/>
        </p:nvPicPr>
        <p:blipFill>
          <a:blip r:embed="rId2"/>
          <a:stretch/>
        </p:blipFill>
        <p:spPr>
          <a:xfrm>
            <a:off x="6324480" y="533520"/>
            <a:ext cx="176544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1T03:14:30Z</dcterms:created>
  <dc:creator>Janice Rowland</dc:creator>
  <dc:description/>
  <dc:language>en-US</dc:language>
  <cp:lastModifiedBy>blount</cp:lastModifiedBy>
  <dcterms:modified xsi:type="dcterms:W3CDTF">2008-09-19T00:22:43Z</dcterms:modified>
  <cp:revision>10</cp:revision>
  <dc:subject/>
  <dc:title>Creating a Resu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